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CA3-8A77-4B14-AC63-6245BF1F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085-DF7E-4F45-A9A7-1268F94B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60E-23BA-4823-83C4-0D5BFC16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0D4-6405-41A7-A65A-91182B7A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240-8BA9-4E7D-87F6-BCC54E6F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ED3-3195-45D6-9B0F-812EFA3D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0DC-FD37-4499-B2A1-C579AF21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C90-A7C4-4F69-9DCC-8DE6FCC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306-9F62-42E7-9A34-D6BB5119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18C-175E-41F2-9059-12CB021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5CB-D4F9-4E01-A18C-51376F9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2F2-6A8F-4360-8BB2-98106B99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7BD1-FE32-4047-B8A4-862810DB9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scovitmica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30080" y="2286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838080"/>
            <a:ext cx="44766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erent che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mic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H,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t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logop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ch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innwal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pido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uscovitemica2" descr=""/>
          <p:cNvPicPr/>
          <p:nvPr/>
        </p:nvPicPr>
        <p:blipFill>
          <a:blip r:embed="rId2"/>
          <a:stretch/>
        </p:blipFill>
        <p:spPr>
          <a:xfrm>
            <a:off x="457200" y="3932280"/>
            <a:ext cx="449568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4120" y="3276720"/>
            <a:ext cx="359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provides cleanest and most defect free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 muscovite is of the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muscovite V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8280" y="1442880"/>
            <a:ext cx="7867440" cy="3972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38160" y="45720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e of muscovite 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280" y="6095880"/>
            <a:ext cx="62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: Daniel J. M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üller, Journal of Structural Biology 119, 172-188 (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87480" y="803160"/>
            <a:ext cx="258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: Si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: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83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are twin variety from Brazil forms yellow five pointed stars and is called "Star Muscovite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ep green variety is called fuchsite and is colored by chromium inpur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heat insulator (oven wind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6:22:38Z</dcterms:created>
  <dc:creator>Dionne</dc:creator>
  <dc:description/>
  <dc:language>en-US</dc:language>
  <cp:lastModifiedBy>Dionne</cp:lastModifiedBy>
  <dcterms:modified xsi:type="dcterms:W3CDTF">2003-12-10T16:42:31Z</dcterms:modified>
  <cp:revision>9</cp:revision>
  <dc:subject/>
  <dc:title>PowerPoint Presentation</dc:title>
</cp:coreProperties>
</file>